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EAB-87D1-4D08-A2A2-7286A025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644-DAE2-4CDF-AFA7-21E52A53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9A1-BF02-432B-9234-703C43E6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E50-F784-4740-B12A-95A62DE2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8F9-AB7C-415B-8083-67B41092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E93-AADF-48AF-9804-BAAC34A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359-310D-4CB2-B20A-2BFE665E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2F6-E776-4CA0-AEBA-3F95B7E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215-C859-494A-B27E-FF0FBEF4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133-1801-464D-8B04-CD91FF8D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C9D-0B82-44EB-95FC-C9A31EE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E01-F9AF-49C1-B1A7-F45C7235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3CA9-7F82-4536-8D96-E97A9343C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762120"/>
          <a:ext cx="8839080" cy="5790240"/>
        </p:xfrm>
        <a:graphic>
          <a:graphicData uri="http://schemas.openxmlformats.org/drawingml/2006/table">
            <a:tbl>
              <a:tblPr/>
              <a:tblGrid>
                <a:gridCol w="1083600"/>
                <a:gridCol w="3054960"/>
                <a:gridCol w="1914120"/>
                <a:gridCol w="2786400"/>
              </a:tblGrid>
              <a:tr h="12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SCOS Goals &amp; Objec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ual L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9:08:36Z</dcterms:created>
  <dc:creator>jmcinnis</dc:creator>
  <dc:description/>
  <dc:language>en-US</dc:language>
  <cp:lastModifiedBy>jmcinnis</cp:lastModifiedBy>
  <dcterms:modified xsi:type="dcterms:W3CDTF">2008-12-08T19:09:23Z</dcterms:modified>
  <cp:revision>1</cp:revision>
  <dc:subject/>
  <dc:title>Slide 1</dc:title>
</cp:coreProperties>
</file>